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14306"/>
        <c:axId val="71691495"/>
      </c:barChart>
      <c:catAx>
        <c:axId val="53314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1495"/>
        <c:crosses val="autoZero"/>
        <c:auto val="1"/>
        <c:lblAlgn val="ctr"/>
        <c:lblOffset val="100"/>
        <c:noMultiLvlLbl val="0"/>
      </c:catAx>
      <c:valAx>
        <c:axId val="7169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14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408-870F-48B1-981C-1727F57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4D6-8939-4F7F-AACB-DDB8780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CFB-884F-4A1D-9106-F76019D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547-64C5-4AB6-B6FB-9E612D0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219-4425-4966-AD51-89F158B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80E-A835-4905-879F-4F9053A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AEE-6DDD-487A-9AD1-F81A47A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815-1D4F-4C46-A9A6-B67E46FB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1BB-AC03-48BE-9BF0-CA51F14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16D-39F4-4306-99AC-E416336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A2F-2FB4-4C50-AA77-96C9CB3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758-49B4-46FF-84F8-5A76A24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DF640-4A8A-4D3A-9F2B-0FF25AB0F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