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696597"/>
        <c:axId val="19476327"/>
      </c:barChart>
      <c:catAx>
        <c:axId val="506965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76327"/>
        <c:crosses val="autoZero"/>
        <c:auto val="1"/>
        <c:lblAlgn val="ctr"/>
        <c:lblOffset val="100"/>
        <c:noMultiLvlLbl val="0"/>
      </c:catAx>
      <c:valAx>
        <c:axId val="194763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965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9531-2DFB-42A4-8753-6929E3F9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1643-00B9-4976-90A0-BCCAF939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A444-468D-485A-A7AF-7CE6630E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4D6D-DF53-43AC-934A-199C1EF9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801B-9AB2-4930-B1A8-649DE781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4242-30A4-457C-9E6B-265306A6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2F9D-7E65-4246-8D7B-27E6D3E9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27DB-91AC-4C41-A5CF-23C277E3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8009-158C-4A01-B750-253FFAA9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B3E8-EE60-40C5-AAA7-B4497A2A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4858-DB7E-43B9-A607-0E8C4CF9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5B9B-2CBB-4798-BE77-87B97270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243DF-F267-4428-9085-87B8176AFB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