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00795"/>
        <c:axId val="45944146"/>
      </c:barChart>
      <c:catAx>
        <c:axId val="79100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44146"/>
        <c:crosses val="autoZero"/>
        <c:auto val="1"/>
        <c:lblAlgn val="ctr"/>
        <c:lblOffset val="100"/>
        <c:noMultiLvlLbl val="0"/>
      </c:catAx>
      <c:valAx>
        <c:axId val="45944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00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17B-D68F-4381-A0E6-24B1247CB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F84-63D5-4694-A19D-AEA38574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234-2949-4A57-ADD9-95256CF3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415-BAD9-456F-A5C2-90708986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0F7-BF5D-4C3C-8BF2-8A42BBB3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325-14EC-4C54-8D6D-8E913D0C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E3C-294B-438D-A35B-4AB54DB3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734-5461-42C4-86EA-53DFD4F1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02C1-CB1B-4EE2-95AE-7832E68B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83BB-752A-4180-A9EF-11772AC1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AC1-BABF-4F0D-94D5-0BFBCC4C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538-8217-4334-983D-09A1030E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853BF-2700-4A99-8AE6-082B580457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