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8900"/>
        <c:axId val="96230875"/>
      </c:barChart>
      <c:catAx>
        <c:axId val="2228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30875"/>
        <c:crosses val="autoZero"/>
        <c:auto val="1"/>
        <c:lblAlgn val="ctr"/>
        <c:lblOffset val="100"/>
        <c:noMultiLvlLbl val="0"/>
      </c:catAx>
      <c:valAx>
        <c:axId val="96230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8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39C-D49A-4406-9971-68971EF3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9CC-895C-4C1B-BB3F-957DA5F1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BF8-FA1F-4473-B154-11C1858B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099-C891-46C6-9949-40BF1C0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71F-B09D-408C-A004-DAAA74BB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FE7-E11C-4D17-813F-4C3C2A02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294-C8FC-480E-8E20-50A99DB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C68-5CE6-4B73-8FDE-F4D40CA8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FA9-91BD-4F7E-8EAF-4589C305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91F-2C34-4B47-AA02-3800433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524-D491-4F5D-96BF-79D1C76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A8B-2856-4BAD-B520-1DA6D15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37D40-0F7A-41BE-8E79-4189218B52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