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60752"/>
        <c:axId val="11852163"/>
      </c:barChart>
      <c:catAx>
        <c:axId val="31660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52163"/>
        <c:crosses val="autoZero"/>
        <c:auto val="1"/>
        <c:lblAlgn val="ctr"/>
        <c:lblOffset val="100"/>
        <c:noMultiLvlLbl val="0"/>
      </c:catAx>
      <c:valAx>
        <c:axId val="11852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0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DEE-81BF-4919-9A5F-4BD86FBB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CC2-2C00-44A8-B83C-46023A5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746-6D95-4E33-A46F-7FD6D1D0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16E-4AD6-48CD-B22D-E70A59DF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703-9545-42D8-A5DF-F7344B1F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085-68A7-45FC-8D5E-528753A2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E2D-D5CA-4914-98B2-821C755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ED0-0811-4194-99AB-BC60D0B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487-F07F-4E41-B3AE-95BDBCB6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2AB-B095-44AB-9886-BC2A0F6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9C5-9C79-4A95-B05C-1F32BDF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CF4-1F4D-493D-980C-10F1A38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DB3FD-045D-41AC-85B4-CB1026F140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