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46211"/>
        <c:axId val="76738532"/>
      </c:barChart>
      <c:catAx>
        <c:axId val="65346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8532"/>
        <c:crosses val="autoZero"/>
        <c:auto val="1"/>
        <c:lblAlgn val="ctr"/>
        <c:lblOffset val="100"/>
        <c:noMultiLvlLbl val="0"/>
      </c:catAx>
      <c:valAx>
        <c:axId val="76738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46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7B5-1B0A-4EC8-8AA5-BDCCF9B8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871-A5F9-4A09-ABD4-5B8B4F15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930-E364-4D7E-BD4F-04513757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E5E-74A7-43F1-83C8-2608E1E8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E34-6961-47A4-A303-015E45B5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922-9FEC-4786-A76F-DDFF3B71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214-0FAD-4C3A-9A98-EAE7CAD1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E64-B109-46E7-ACD6-9B932900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BB9-FC5B-46BD-A67D-F522BCF1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DC8-04CE-48B3-9037-5B1C015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1A7-BE56-4F56-B428-4DFE0E4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73D-9549-4DF8-B2C3-473852F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F3E7A-37CD-4764-80B1-362A00D9FD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