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3040"/>
        <c:axId val="722556"/>
      </c:barChart>
      <c:catAx>
        <c:axId val="37863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556"/>
        <c:crosses val="autoZero"/>
        <c:auto val="1"/>
        <c:lblAlgn val="ctr"/>
        <c:lblOffset val="100"/>
        <c:noMultiLvlLbl val="0"/>
      </c:catAx>
      <c:valAx>
        <c:axId val="722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3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802-05F3-4023-A9D6-32FCE48A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3AC-9A97-4CD0-A1AC-A968077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424-46A7-41C3-B1A0-79C8EF80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B3C-2975-4538-B589-7AD8288A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36C-3964-4020-8D40-77A6563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9A9-5FE0-4E51-9B61-45CFCB0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F82-7778-4497-BCB8-14B90CF4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98E-263F-44CE-834A-A8269165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876-D33A-4AA4-9435-FBD058A5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AD4-7A53-46AA-82C2-C6A651A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04A-8DCB-4586-9FF1-41816ED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6AF-12D7-458F-AA4C-13DAA34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6987E-75D9-4F81-BBF5-D14EAF8AB9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