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30721"/>
        <c:axId val="3725867"/>
      </c:barChart>
      <c:catAx>
        <c:axId val="62630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5867"/>
        <c:crosses val="autoZero"/>
        <c:auto val="1"/>
        <c:lblAlgn val="ctr"/>
        <c:lblOffset val="100"/>
        <c:noMultiLvlLbl val="0"/>
      </c:catAx>
      <c:valAx>
        <c:axId val="3725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30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45D-2C45-4EC8-972B-567F23E6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F8D-F76E-41A3-A024-46E85743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E65-48BD-49C6-9B7F-646404DA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314-C104-48F0-9341-C148090D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6AD-AFF2-4328-A75E-17E636A6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5A6-108D-4BCA-9AA2-39A84C31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448-B37F-4005-8CC8-066BE32C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76D-8511-4B2C-8639-2DEC205C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6ED-B30E-4ECE-ABA8-5AED1E56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756-6405-406E-8F3D-2BF4933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347-1BD7-4BDF-B888-635C8A4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AB8-0D50-437F-ABA1-7B63BA5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AABC0-D4C9-497C-BCE6-C811BA6E2F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