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61678"/>
        <c:axId val="73018457"/>
      </c:barChart>
      <c:catAx>
        <c:axId val="59061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8457"/>
        <c:crosses val="autoZero"/>
        <c:auto val="1"/>
        <c:lblAlgn val="ctr"/>
        <c:lblOffset val="100"/>
        <c:noMultiLvlLbl val="0"/>
      </c:catAx>
      <c:valAx>
        <c:axId val="73018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1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EE8-0260-481F-BF3D-C81B1A5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81A-9455-45FA-8E02-660F4FC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08A-87A1-4504-B9D3-4B36031B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8A2-7D4E-47B9-99AF-6D30F741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FBA-B0EA-4D03-9097-F80A239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3E4-4103-4BB7-8719-D5377BFD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F82-7663-4452-B30A-EB4E7A36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DCB-C7ED-4A37-9646-D4220EB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6C3-BE06-4C8F-B96C-F3C7A07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725-F06E-491B-9F74-5B82FE7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353-B330-47EF-BDD0-7DA8730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A71-F736-416E-A95B-7F921A1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100B-ED2D-4121-95C6-8FBA3FD11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