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93266"/>
        <c:axId val="53598115"/>
      </c:barChart>
      <c:catAx>
        <c:axId val="23893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98115"/>
        <c:crosses val="autoZero"/>
        <c:auto val="1"/>
        <c:lblAlgn val="ctr"/>
        <c:lblOffset val="100"/>
        <c:noMultiLvlLbl val="0"/>
      </c:catAx>
      <c:valAx>
        <c:axId val="53598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93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3DE-51C4-4B07-9E6C-82FC8AA6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679-5942-4FAC-8773-279DE4E6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C5B-5E6C-4271-A0E7-18A20C8A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3E2-1D7A-4F43-AEB8-BEC99668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93A-1FCF-49E4-9ADC-0833E3E3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576-9A49-4387-A7E8-E75389E6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C1E-5278-4D04-BB86-DC472523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D2B-6A45-4948-B80D-A9F9FB92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B60-2D10-4B01-A158-1070BDFA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5C0-D6A0-4B82-992A-1F1A2FDC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F2B-DD51-43DD-8323-FA07B32D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AE1-DDE4-4B65-94F6-972DFE04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8444F-3C98-41A3-B8C8-AC611731B7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