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221590"/>
        <c:axId val="16266742"/>
      </c:barChart>
      <c:catAx>
        <c:axId val="632215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266742"/>
        <c:crosses val="autoZero"/>
        <c:auto val="1"/>
        <c:lblAlgn val="ctr"/>
        <c:lblOffset val="100"/>
        <c:noMultiLvlLbl val="0"/>
      </c:catAx>
      <c:valAx>
        <c:axId val="162667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2215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014E-686F-4CC2-BCF1-E914F6EB4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4C60-2503-42D6-9AAD-96F04E2D0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91D3-D2EF-4817-AAFC-5D38D3F1E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238B-23EA-43D3-8F23-D8FA58043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0F7B-DF86-4D69-86FF-BD6FDAC32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9D62-7481-4A41-ADCE-2465EEF27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A2BC-42BD-42AF-A1C7-948580D8D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D23D-FE0E-417A-B33F-901908759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0774-54F4-49D3-966F-56E6C12C8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48BD-B4D2-435F-B30A-760B0D225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4A4A-9EF8-465C-BFEF-67DCB8704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510F-E373-4E12-B740-F60173F98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55DCFC-A198-48AD-A15B-D7FD480F7F6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