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92970"/>
        <c:axId val="65381930"/>
      </c:barChart>
      <c:catAx>
        <c:axId val="82492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1930"/>
        <c:crosses val="autoZero"/>
        <c:auto val="1"/>
        <c:lblAlgn val="ctr"/>
        <c:lblOffset val="100"/>
        <c:noMultiLvlLbl val="0"/>
      </c:catAx>
      <c:valAx>
        <c:axId val="65381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92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BFC-DC30-4474-B17F-A6508C61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C67-33F1-468E-BD38-C8A0D6D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38D-3ED9-4D9F-AB29-D6B662E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E23-CBAD-4C46-9F01-36830499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33A-F4F3-4DB1-8412-B69E6A3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B39-210F-4981-9A9B-F8DA3A1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BFA-E5B4-4F36-A021-B9B5C7D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7F9-8037-4A8D-AFE6-9C6D53F0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752-8B7E-48FD-9468-10F6BCE9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3E0-C6FF-404E-A693-1B3E8A1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636-1794-43D0-8835-4263F66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B73-38A8-44EC-B45C-F0E602B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0B78D-03DB-48E8-8C99-EB63A26BFF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