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73578"/>
        <c:axId val="55719220"/>
      </c:barChart>
      <c:catAx>
        <c:axId val="34673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19220"/>
        <c:crosses val="autoZero"/>
        <c:auto val="1"/>
        <c:lblAlgn val="ctr"/>
        <c:lblOffset val="100"/>
        <c:noMultiLvlLbl val="0"/>
      </c:catAx>
      <c:valAx>
        <c:axId val="55719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73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746-5401-4146-8EA9-3D5E32B9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55C-5DFE-4CAB-9F2C-B8C06E2B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248-DEC9-4A40-BFED-A0019DD1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3B7-85A1-44D0-9FE4-D44DCCD4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C29-E780-465C-9ADD-1CB51264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1B4E-129B-4B69-A096-A0F2ED14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F7CF-5C83-47E4-95F1-920482CE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D78-C830-422E-829E-4321E489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B2F-2B15-4EEA-AE43-10D3236B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B3A-160A-4A12-B090-58B3CBB0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1E2-4D41-48BD-B288-85A87504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87E-F2C5-404B-92E8-4D49D3DF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1AB43-E6C8-4E21-9909-C3CB848F62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