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5453458"/>
        <c:axId val="55188054"/>
      </c:barChart>
      <c:catAx>
        <c:axId val="154534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188054"/>
        <c:crosses val="autoZero"/>
        <c:auto val="1"/>
        <c:lblAlgn val="ctr"/>
        <c:lblOffset val="100"/>
        <c:noMultiLvlLbl val="0"/>
      </c:catAx>
      <c:valAx>
        <c:axId val="551880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4534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93ED-4AC2-4E20-83F0-F8F481345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84BD-AEA2-4666-916E-026F9EE30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8157-DE85-4721-A1DD-B8B30161D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8E904-D4CB-4622-8CFF-187CC33FA7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946F-C920-4DC1-8A55-9AB80CEDE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D9D1-CF2A-425E-86DC-170905CE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23D7-5091-4CD1-AF83-8E823A8E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34D2-09A5-4AEE-8857-168BF71BB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ABC4-95C0-4393-B0CC-84DC373EC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871F-3D8A-441F-B1BB-82B9E5E7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9B050-FD07-429E-AA80-3475D9C4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E7F4-F857-4663-B1D4-C2DE70BF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A4C136-9B19-415D-B4A0-B4B020A0220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