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869363"/>
        <c:axId val="50263826"/>
      </c:barChart>
      <c:catAx>
        <c:axId val="218693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263826"/>
        <c:crosses val="autoZero"/>
        <c:auto val="1"/>
        <c:lblAlgn val="ctr"/>
        <c:lblOffset val="100"/>
        <c:noMultiLvlLbl val="0"/>
      </c:catAx>
      <c:valAx>
        <c:axId val="502638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8693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DF1D-900F-4F86-AC76-0EDEEE66C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6E4C-26AA-44AE-BA51-CBBE63A4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A6E4-151F-4C6C-ADE6-B75A4E8BB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F3AE-4A89-436C-8338-15D9DD785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04F2-B570-49B6-BAF7-02ED9B60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F0FE-D286-4857-A984-36C86B2C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199B-2837-4D06-B57D-AEEAEAB1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4C10-6130-4BEB-A7BB-43A5C8CA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7750-FECC-4773-94B5-4E7BD399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0DD6-2004-4F2F-99B7-906AEB4C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4FAB-7007-4450-BDB5-BBF2F96B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974D-0B16-4610-9646-C96A6BAA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D59E32-06CE-4C6C-BE4B-C94B88D9FC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