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979082"/>
        <c:axId val="51208938"/>
      </c:barChart>
      <c:catAx>
        <c:axId val="789790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08938"/>
        <c:crosses val="autoZero"/>
        <c:auto val="1"/>
        <c:lblAlgn val="ctr"/>
        <c:lblOffset val="100"/>
        <c:noMultiLvlLbl val="0"/>
      </c:catAx>
      <c:valAx>
        <c:axId val="512089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790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5DD9-8FD7-439D-9943-726150C9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1F31-3B48-4B61-BB09-DF514A32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5AB0-BE1E-4F42-A3ED-64E0E66E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469B-8BFB-4B84-9470-F1F060FA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F9A0-9CB6-4ECD-B2D3-E7F14C73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CE07-7D45-40E0-BDC7-0414FE2D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B80B-6E3A-4522-A14E-A1DB8005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BD3F-C794-4851-866F-931AA7B7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1185-6074-4328-9D39-4CD3F828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2629-A4F5-4683-B2E8-04A13887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50E6-E395-4697-AFF3-7D2FC679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C91B-558F-47AF-A3C1-AEDAB439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B9602-70F4-43DC-983F-BF4C6B11CA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