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55934"/>
        <c:axId val="17654719"/>
      </c:barChart>
      <c:catAx>
        <c:axId val="22559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54719"/>
        <c:crosses val="autoZero"/>
        <c:auto val="1"/>
        <c:lblAlgn val="ctr"/>
        <c:lblOffset val="100"/>
        <c:noMultiLvlLbl val="0"/>
      </c:catAx>
      <c:valAx>
        <c:axId val="176547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59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93E6-B07A-46D4-A4EC-51E15EC58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A119-25FB-4009-A3C8-FBE4448A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8791-6925-462B-AAA6-8E0885D7F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A04B-450A-42BB-AFB8-44E9AB76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786E-3269-4437-A8A0-E6F8DFA7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CD90-6C46-4122-BD41-5FD44CF2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00F9-FC77-4F1F-B8AE-8CC2E3E1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1871-EA6A-4F6D-B4FE-569AA0E8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40DF-4DDB-4B22-BFE3-CE14A631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FE68-9A7D-463C-8705-374D53E1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8D73-7F49-47AF-9C32-2A0F1BA9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E680-A92F-4839-A57C-48A16C92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CC83D-01E6-4DA9-8BA8-767972FA0F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