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1929"/>
        <c:axId val="40729901"/>
      </c:barChart>
      <c:catAx>
        <c:axId val="8251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29901"/>
        <c:crosses val="autoZero"/>
        <c:auto val="1"/>
        <c:lblAlgn val="ctr"/>
        <c:lblOffset val="100"/>
        <c:noMultiLvlLbl val="0"/>
      </c:catAx>
      <c:valAx>
        <c:axId val="40729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1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068-FEF1-4AF0-BC07-8353113B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1AC-B43B-4233-ABE4-07876665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722-D34A-4EA9-B4D4-D4E9BFF6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CA25-DC30-4C81-A200-A9521B13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9A6-55D7-456B-95E1-4254B7D1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8FE-78DC-454E-8568-C716CEBC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851-9B3C-424A-AC1F-BF5A6880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EEB-7E67-4AC0-A7C0-942C69E8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A29F-4BA6-4025-ADBE-3E785F99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769-BACE-4122-84C3-C1E9E418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CCB-86A6-40C0-B96D-D41ACBB3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CDE-B578-40FB-BDEA-1D1E13A7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43195-94B4-4E75-892D-3BCF166488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