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363252"/>
        <c:axId val="73158926"/>
      </c:barChart>
      <c:catAx>
        <c:axId val="673632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58926"/>
        <c:crosses val="autoZero"/>
        <c:auto val="1"/>
        <c:lblAlgn val="ctr"/>
        <c:lblOffset val="100"/>
        <c:noMultiLvlLbl val="0"/>
      </c:catAx>
      <c:valAx>
        <c:axId val="731589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632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2B6D-56D7-45D5-85A5-08CDC411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41E1-DFF5-4654-A582-211B761D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5C79-B592-406E-8131-96908E12B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9600-0E61-4FEB-AD36-1ED099FEA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D077-21EE-4E82-AA57-DC36BD4E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807D-AE4B-4802-99D8-504747DB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8F5B-5BED-4A45-BE5C-762E01FB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AB18-F49D-47DE-B329-F47E10F9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75EA-6945-4F19-9158-B8E582B7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74E3-340B-4E39-B798-D66A5329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FA97-3BFE-4933-A8D6-7FEA9D3D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C83E-675E-4530-B13E-4778BAE9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F32DDE-D8D6-4EE2-A4F5-12151132A4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