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14828"/>
        <c:axId val="80474728"/>
      </c:barChart>
      <c:catAx>
        <c:axId val="7191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4728"/>
        <c:crosses val="autoZero"/>
        <c:auto val="1"/>
        <c:lblAlgn val="ctr"/>
        <c:lblOffset val="100"/>
        <c:noMultiLvlLbl val="0"/>
      </c:catAx>
      <c:valAx>
        <c:axId val="80474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1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53-0F42-4890-88DB-CDA0C51C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DBC-14EC-46B3-8CC5-FFB6567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CC2-4FAB-49A2-9973-06E2407C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311-A456-41DC-82B9-B7A9C14A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A73-CC07-41BD-93C4-29049A1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418-5F88-4FF8-BB64-807AF42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933-A7C6-4EBF-9528-693AD9E4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5D1-C689-4402-B5A0-185E1E5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0E8-8721-4119-AA01-15EA486C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299-2CCA-4A0B-BF9B-5287D7F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E46-2E0A-4410-A8AA-D160B4C3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EEA-B5E7-4D55-B149-D41B3F5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7E0B0-C6C9-4FCA-80E4-CB9FA7DA3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