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99680"/>
        <c:axId val="51285343"/>
      </c:barChart>
      <c:catAx>
        <c:axId val="43199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85343"/>
        <c:crosses val="autoZero"/>
        <c:auto val="1"/>
        <c:lblAlgn val="ctr"/>
        <c:lblOffset val="100"/>
        <c:noMultiLvlLbl val="0"/>
      </c:catAx>
      <c:valAx>
        <c:axId val="51285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9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4FE-2154-4CAE-B2C0-F0FCBE2A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124-1F62-4E21-911B-F8CDCFD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D84-E329-4D9C-BF72-A71E9074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EAC-21DD-4C61-AA43-9D3A729C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A05-7483-4601-974C-BCCA9507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17C-4199-44C5-B498-A4106816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31C-613F-472A-91F0-40BBEAE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5E2-1ECB-4986-BC35-DD2A9BCA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358-C6A7-4D77-B042-31677E2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F98-A461-491B-A3C5-161A5761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2B7-33D9-421C-8236-7245E39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871-69BA-4200-B5C4-65238EB8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26A2D-2EB4-4CED-A7EE-224FDF4DD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