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44532"/>
        <c:axId val="58724879"/>
      </c:barChart>
      <c:catAx>
        <c:axId val="22544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24879"/>
        <c:crosses val="autoZero"/>
        <c:auto val="1"/>
        <c:lblAlgn val="ctr"/>
        <c:lblOffset val="100"/>
        <c:noMultiLvlLbl val="0"/>
      </c:catAx>
      <c:valAx>
        <c:axId val="58724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4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D8B-2A78-4D75-87A4-28BA11EE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852-8F30-4D04-9C68-5719320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310-08EA-4EB4-A7D0-310BC7EF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09E-2ADD-4C90-A46B-75E3A4CD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DA1-77DE-4B5F-A931-FD56F00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644-E8C5-4062-B055-5DE8B801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E21-613B-4EE7-8394-3AA1A081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0FE-3D82-4D47-AE04-72EFC401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8FB-8C20-45EA-9F3F-84F27036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628-E9B9-4E08-926A-E4582BB5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D26-394E-446B-9E02-02D39458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72A-E001-4C0B-91C0-2F0490C8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EFDD9-C9C9-4CCF-8D1D-1460D5CFC2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