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84982"/>
        <c:axId val="84384863"/>
      </c:barChart>
      <c:catAx>
        <c:axId val="17184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84863"/>
        <c:crosses val="autoZero"/>
        <c:auto val="1"/>
        <c:lblAlgn val="ctr"/>
        <c:lblOffset val="100"/>
        <c:noMultiLvlLbl val="0"/>
      </c:catAx>
      <c:valAx>
        <c:axId val="84384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84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979-EC49-455E-A111-D0763ADE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326B-F747-4334-A28A-DA683C88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166-B3A9-4801-BD6B-A0710DF7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0DD-6734-4EB2-85BF-B41D7800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C54-091E-4413-A5DE-18DD88BA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169F-8C89-4EA8-8351-D7295894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E53-0E15-475A-85E5-7FBD7AF2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473-243B-47BD-AD52-EEC86D6F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A0D-2017-4B65-8586-C6A58D91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E9D-B3EF-48EC-806B-258AB907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9B9-73F3-4635-9C16-8CD3E7E5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8A1-BA3A-4343-9F9D-0C269465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B0E92-43E3-4E74-98F0-C128E141B2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