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05510"/>
        <c:axId val="27770845"/>
      </c:barChart>
      <c:catAx>
        <c:axId val="91205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70845"/>
        <c:crosses val="autoZero"/>
        <c:auto val="1"/>
        <c:lblAlgn val="ctr"/>
        <c:lblOffset val="100"/>
        <c:noMultiLvlLbl val="0"/>
      </c:catAx>
      <c:valAx>
        <c:axId val="27770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05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01-B2BC-42DC-A51D-00F6E8D9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DCF-597D-4D21-B98D-0870500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856-B192-44A1-9E58-96CE5C44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DA4-8422-45F7-A2A8-8B39E3F0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331-FD14-417A-AFDB-F1B9F42B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5CB-B141-455F-9F22-12C08763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C65-47A2-4CAE-A07D-F071507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2A7-9EC8-401C-87F2-A2AB271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EAD-2C55-4AE4-A1BE-E316D1B8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98A-1541-4101-994A-2BA48C3C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4A5-84CF-46B8-92F5-A3FEF8A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2D6-5AC9-4662-9BC4-9349BDEC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EF6B-C08A-443E-9CB9-904030234C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