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56996"/>
        <c:axId val="88012119"/>
      </c:barChart>
      <c:catAx>
        <c:axId val="22556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2119"/>
        <c:crosses val="autoZero"/>
        <c:auto val="1"/>
        <c:lblAlgn val="ctr"/>
        <c:lblOffset val="100"/>
        <c:noMultiLvlLbl val="0"/>
      </c:catAx>
      <c:valAx>
        <c:axId val="88012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56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801-AAD4-433F-B684-945A8CC6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DE0-2033-466D-A065-AA0C3D67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3D8-D58F-4ADC-8DE2-2C8CFB10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F21-D247-4CA0-A9DA-C4A99CFA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7B2-FDAE-4097-8844-E9523E2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9AD-1682-48C6-9ECA-BD0CBB62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C96-EF38-4E62-953F-491733F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7AF-B992-4888-953F-D69467F6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1E2-0B2D-404E-BC9B-BD3C3D1F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E3D-E97F-47E6-AD05-6169AC6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F5D-AD98-4DF9-92F7-F8EDB7D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D27-1164-4C66-8181-CCADC6A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57A7-3B0C-4C08-805D-4F1E486C0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