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70587"/>
        <c:axId val="71240938"/>
      </c:barChart>
      <c:catAx>
        <c:axId val="69770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40938"/>
        <c:crosses val="autoZero"/>
        <c:auto val="1"/>
        <c:lblAlgn val="ctr"/>
        <c:lblOffset val="100"/>
        <c:noMultiLvlLbl val="0"/>
      </c:catAx>
      <c:valAx>
        <c:axId val="71240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70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CC2-FD68-48A5-B87A-2D014221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1DDC-871F-4D1C-AA31-6B74A0C4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FAD6-346E-48C4-B276-7ED72F35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C551-256B-4286-9625-9FF35231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FC9C-E44C-4916-867B-42A28A26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C91-33A6-449F-B69C-F9BE1D3D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9B6C-58CA-4748-A152-78560C77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A55-C878-46C1-8183-551FC27D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BAF3-9FC7-43C7-BAA7-9EA94361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7C5F-0165-46B2-A510-3A6613F0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8AD-EB65-49BB-B1D0-4CBC747B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075-B3FD-4DE3-998B-86F78D63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72F4D-89F3-4B69-8A65-244170961F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