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07893"/>
        <c:axId val="99918609"/>
      </c:barChart>
      <c:catAx>
        <c:axId val="97307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18609"/>
        <c:crosses val="autoZero"/>
        <c:auto val="1"/>
        <c:lblAlgn val="ctr"/>
        <c:lblOffset val="100"/>
        <c:noMultiLvlLbl val="0"/>
      </c:catAx>
      <c:valAx>
        <c:axId val="99918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07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485-DAEB-46AF-926C-D14633FA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AC8-54AF-4674-9EF6-AEAB2FCE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736-5A4C-4F30-A584-AC6333A7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144-F423-4D69-A6EE-10253674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6E3-A058-4CE7-A6D1-90DC2F7D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CC7-A137-47FF-BE82-6A05A1E8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FBA-8C2E-4BB1-BA62-36D26A81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0E4-A6F8-40CC-B810-CFA5C9C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385-2D9C-4048-8CE8-56B78ECE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7B5-4B6D-41B8-8638-A373F943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D33-5ACF-423B-8198-1F174CA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ED9-3D64-484F-A72D-3F2B371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FE963-7567-447E-B317-AB6FF4753B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