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19964"/>
        <c:axId val="41059405"/>
      </c:barChart>
      <c:catAx>
        <c:axId val="64319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59405"/>
        <c:crosses val="autoZero"/>
        <c:auto val="1"/>
        <c:lblAlgn val="ctr"/>
        <c:lblOffset val="100"/>
        <c:noMultiLvlLbl val="0"/>
      </c:catAx>
      <c:valAx>
        <c:axId val="41059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19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E54-0556-477F-B135-775D920D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9AC-A461-499F-BE0C-6CA4BFEC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61C-1563-4AAD-9BE1-21241B53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BD5-D4D7-4AA7-81FA-88FA1C0C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F29-550B-42A6-BF5F-7C686172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A6E-AE71-4F6B-9142-80137493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BD8-7B56-4A29-B263-870227BB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C05-33F5-4517-9163-800F4D45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425-F81A-49DF-9E1C-A19AFE38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B64-3C61-4300-BAC0-26B8A408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0E7-A2F7-4D4F-A13B-F23E0369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07F-D5DA-43F4-8810-7B6A3FE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2B34C-AD35-4F84-862B-65732B7CE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