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77349"/>
        <c:axId val="33306310"/>
      </c:barChart>
      <c:catAx>
        <c:axId val="34277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06310"/>
        <c:crosses val="autoZero"/>
        <c:auto val="1"/>
        <c:lblAlgn val="ctr"/>
        <c:lblOffset val="100"/>
        <c:noMultiLvlLbl val="0"/>
      </c:catAx>
      <c:valAx>
        <c:axId val="33306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77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0B0-F5B9-4AA2-B645-0D2280DD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637-9164-4700-84BF-28DE3BF1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02B-60F0-4386-9885-49D0F5E5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788-BD39-41E3-88CB-C0ACD4A6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016-9CA2-40E1-9500-D4E107AE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EBE-B5E6-4A99-9DD7-E8F63298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0C0-8307-448A-86F5-2DFEBAF6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863-1E30-43E0-A92B-79064BE4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C26-471F-4645-BBBF-4B9F87DE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4A3-A21A-468A-AC9F-6DC29B37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621-F663-48AE-A63B-8CCB5246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C26-C32F-44E3-99ED-2C787C87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70469-96A1-43C5-8355-7A262CF2FF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