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8131"/>
        <c:axId val="83508882"/>
      </c:barChart>
      <c:catAx>
        <c:axId val="1238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08882"/>
        <c:crosses val="autoZero"/>
        <c:auto val="1"/>
        <c:lblAlgn val="ctr"/>
        <c:lblOffset val="100"/>
        <c:noMultiLvlLbl val="0"/>
      </c:catAx>
      <c:valAx>
        <c:axId val="83508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8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7D4-E79C-475E-A906-5982AA28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2CD-C0AE-4C79-A82C-BCEB3104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B5B-BED1-4A2E-91D9-DB9B1407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F53-2DD3-4C89-8E6B-8624E102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F5F-5C9E-4233-A0BA-D8EBB6E0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E70-D104-43D5-834C-178A9E9B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AB6-55E2-4BF2-9EF1-9A795354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11B-AD85-4B9B-94DA-938D65BC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896-A7A7-4683-B4D1-A51DB987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BB3-B11A-4F04-97B9-570454F2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E46-5F3E-4E92-8DD8-71FF029A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E796-B08A-4979-B34C-295BC467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E6137-E7D7-42B8-B44B-C260A93227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