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64184"/>
        <c:axId val="75066014"/>
      </c:barChart>
      <c:catAx>
        <c:axId val="98064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66014"/>
        <c:crosses val="autoZero"/>
        <c:auto val="1"/>
        <c:lblAlgn val="ctr"/>
        <c:lblOffset val="100"/>
        <c:noMultiLvlLbl val="0"/>
      </c:catAx>
      <c:valAx>
        <c:axId val="75066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64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FAA-ABE6-4A38-98F3-2B3B940D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656-A80E-47B5-A23F-7EC02F3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05F-ACBC-4A7C-8A30-38D756CE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C1F-54AB-4CAE-8FFA-4CE2291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067-D9B8-404F-B4AB-482D5CE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689-B404-4766-A18C-B3010FFC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E73-0175-4299-BAE2-825CA6E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B31-ADF3-4888-BEAD-73A3E23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8E6-6D03-48B9-8D18-33247AA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9E2-A709-4C45-BA33-9DE5225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485-4455-4D18-ADC9-C1E9009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D1D-4936-4629-856D-60172BD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FF5C3-4217-4D19-B712-1D2F549EC6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