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14791"/>
        <c:axId val="69551852"/>
      </c:barChart>
      <c:catAx>
        <c:axId val="86414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51852"/>
        <c:crosses val="autoZero"/>
        <c:auto val="1"/>
        <c:lblAlgn val="ctr"/>
        <c:lblOffset val="100"/>
        <c:noMultiLvlLbl val="0"/>
      </c:catAx>
      <c:valAx>
        <c:axId val="69551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14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772-4B94-49AA-A00E-E8102D9F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755-79DC-436E-9B2C-5B16828F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6C5-D4ED-4BC5-920C-19B8D6BF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632-332D-4FE1-B338-A33B561E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46F-72E6-4A18-819E-0C0E5548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93B-2F17-4159-B3D5-5BDF0D74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1BE-7CCE-43C5-90A2-34D03B1E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10D-A517-46D5-A99F-FF327A4C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E5E-244F-464B-AC83-EC1A6D6F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BC0-4D69-4485-9FD6-DAE5E7FB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A64-E841-4CEB-BE12-78000AC5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752-E006-4ECB-BDB0-D2147DE9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5BC7F-6470-4527-A537-390A33EABE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