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1399"/>
        <c:axId val="37308504"/>
      </c:barChart>
      <c:catAx>
        <c:axId val="9071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08504"/>
        <c:crosses val="autoZero"/>
        <c:auto val="1"/>
        <c:lblAlgn val="ctr"/>
        <c:lblOffset val="100"/>
        <c:noMultiLvlLbl val="0"/>
      </c:catAx>
      <c:valAx>
        <c:axId val="37308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1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104-4F68-4FF8-95E8-BAA022C5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EDB-61DF-43CE-AF55-5F877BC1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351-DDFD-4D53-83D4-6C972DA3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2FC-8FAB-404D-AAAE-8D81D67D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E1B-EA16-4094-97E8-705CD088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24C-3A64-4CA5-9044-E40E13F4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E2C-64F7-400F-BCA0-0D233D22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27F-84DD-426B-8F27-3F3D5835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269-C794-4DBA-B0DA-56EA4187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9CA-3298-427C-9D43-A880AEFD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E80-5458-47ED-8A27-78C909D8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586-3AD1-4803-840E-5FB47FCE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F56F8-36CB-4B62-B6CF-D98BD78EA4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