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96041"/>
        <c:axId val="59275493"/>
      </c:barChart>
      <c:catAx>
        <c:axId val="63596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75493"/>
        <c:crosses val="autoZero"/>
        <c:auto val="1"/>
        <c:lblAlgn val="ctr"/>
        <c:lblOffset val="100"/>
        <c:noMultiLvlLbl val="0"/>
      </c:catAx>
      <c:valAx>
        <c:axId val="59275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96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532-3A8D-4592-9360-C5CB0019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4B0-D2E6-4AC1-AA6D-A3A4DF7C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513-DE89-4E85-9E45-B11D1D2D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720-619E-4936-BC0A-2DF18E7A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2FC-5CA6-416F-8E09-2BABDF4F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99A-1215-435C-9D2B-135F4F41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14D-0C88-46DA-BB19-642570EB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F74-D53A-4640-947B-353F83ED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031-C0AF-4C45-93F6-98B133EE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C42-20BD-4BCE-82D1-3AF0A32F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310-C570-4E84-90DB-66CBC2E6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D64-3872-4BA0-B01A-95937C86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64641-23AE-4231-8B47-F3B260EEB1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