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850"/>
        <c:axId val="46713819"/>
      </c:barChart>
      <c:catAx>
        <c:axId val="652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13819"/>
        <c:crosses val="autoZero"/>
        <c:auto val="1"/>
        <c:lblAlgn val="ctr"/>
        <c:lblOffset val="100"/>
        <c:noMultiLvlLbl val="0"/>
      </c:catAx>
      <c:valAx>
        <c:axId val="46713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8D6-E882-46F5-B612-A8742E4B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A9A-6A8A-46F0-B03C-E54AF98D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812-AF40-4880-942B-4689A4FC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131-16B8-4F39-AB10-B356599A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2AF-DBDB-43C9-97E3-216D2956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DD8-628D-4364-93D2-2B7CB5E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834-2AA7-4CC3-8088-9528914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154-3752-408D-B101-BD3D51B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05A-FB8D-4BCF-A544-ADF0F07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401-91A9-47B2-A8A5-A88D388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902-61EF-4B55-8A0B-C7F9BFC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D69-96A0-4096-9C11-CB6CFBE0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9A3BE-8B02-4DB2-A373-9AD9039870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