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57952"/>
        <c:axId val="98624509"/>
      </c:barChart>
      <c:catAx>
        <c:axId val="49057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4509"/>
        <c:crosses val="autoZero"/>
        <c:auto val="1"/>
        <c:lblAlgn val="ctr"/>
        <c:lblOffset val="100"/>
        <c:noMultiLvlLbl val="0"/>
      </c:catAx>
      <c:valAx>
        <c:axId val="98624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57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C9E-D971-4E21-AD1B-4EFB74CC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9EF-4DB7-4871-9B07-1DFC228B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220-423A-429A-8310-FD144E17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685-CA7D-4211-965B-F0F94AA6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E04-92B0-4F96-BB36-F1A5B7A1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A99-E365-4304-89A6-3EFDFD10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3FC-F2B2-4AE3-9F09-FD17D32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839-9AEB-4CB7-B49F-27B386F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945-0E72-4E9C-81D3-973ABC6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B90-F7A4-481F-96DE-A4BBF29C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A8B-F44D-4C63-88C3-A8FC1B07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A30-FCD4-4890-922E-3A6478A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5681-1E6D-4AE3-B10E-E15C45F15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