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3868"/>
        <c:axId val="82807159"/>
      </c:barChart>
      <c:catAx>
        <c:axId val="6263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07159"/>
        <c:crosses val="autoZero"/>
        <c:auto val="1"/>
        <c:lblAlgn val="ctr"/>
        <c:lblOffset val="100"/>
        <c:noMultiLvlLbl val="0"/>
      </c:catAx>
      <c:valAx>
        <c:axId val="82807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3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9497-D409-4216-81A8-71428F72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498-4890-436C-8CF0-9E52C64B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C17-849E-4531-A119-C8BC4354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8879-DBFB-433A-8CD1-6985B446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DC9-E093-4C06-A552-54742581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A40-F87E-42A2-9E76-A541B235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CA4A-9AD5-4434-848D-3745D4BC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EB54-AD0F-4419-9620-272C352D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A33-5A58-4302-A95C-887CA783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E1E-36E3-46B9-9E1A-7F371044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69D-80C4-4298-ADA3-3A38A806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344F-D30E-47B8-9376-CEAAB746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FC7BB-4BC3-4C68-86C7-C71D7901FC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