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08933"/>
        <c:axId val="43210753"/>
      </c:barChart>
      <c:catAx>
        <c:axId val="70008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10753"/>
        <c:crosses val="autoZero"/>
        <c:auto val="1"/>
        <c:lblAlgn val="ctr"/>
        <c:lblOffset val="100"/>
        <c:noMultiLvlLbl val="0"/>
      </c:catAx>
      <c:valAx>
        <c:axId val="43210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8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6FD-4E16-454C-8869-4C61A67C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18A-E769-4C9D-8DDC-C99679BA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274-A2C6-4E0C-B206-40B370FA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79F-EB76-4155-9D46-AABC0213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77C-0F32-425C-8832-53BB9233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ED6-9628-48AF-98E4-5941CD40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CE9-066A-40B7-918C-D93E9E0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87F-D9A1-49C4-AA9F-783E771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1B5-CE61-4606-80B4-D309AA3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3A4-CD8C-4849-8D58-A28C616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59E-747B-4DB4-A2F6-D81A514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E96-5E7C-467B-BF57-2FA1755B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BDA27-A513-4A6F-8549-9DA908298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