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60849"/>
        <c:axId val="42404867"/>
      </c:barChart>
      <c:catAx>
        <c:axId val="25960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04867"/>
        <c:crosses val="autoZero"/>
        <c:auto val="1"/>
        <c:lblAlgn val="ctr"/>
        <c:lblOffset val="100"/>
        <c:noMultiLvlLbl val="0"/>
      </c:catAx>
      <c:valAx>
        <c:axId val="42404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60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899-0714-4AF5-9818-7210F8DD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2F2-D66D-465B-8F86-EBB38FB4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1C6-C34F-45B3-BBEC-25312029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FE1-3CF1-4FD0-A135-5EF77E62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449-F690-4D28-BC80-FCB8B780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D94-BD0C-49DE-91CD-3233C02A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00E-53C8-4EB8-999F-D16A77C0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BDF-EC53-46EA-A008-D3C93AB4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43D-2040-40DB-8D16-E38E6726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023-4642-496F-BCD5-16B6F0FC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DE3-7C34-44E6-8EAB-01422CFD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ED3-ADC3-407C-B078-56490FAB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68635-9123-40AB-9070-AD0D81600F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