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79899"/>
        <c:axId val="23521220"/>
      </c:barChart>
      <c:catAx>
        <c:axId val="99979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21220"/>
        <c:crosses val="autoZero"/>
        <c:auto val="1"/>
        <c:lblAlgn val="ctr"/>
        <c:lblOffset val="100"/>
        <c:noMultiLvlLbl val="0"/>
      </c:catAx>
      <c:valAx>
        <c:axId val="23521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79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B6B-B769-422E-8CF7-3D3DC4E8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77D-565A-46BE-811E-E2BD2439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081-9784-468F-85AF-B47D45B8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726-6595-4800-AD4C-EA7AD532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269-B7C0-449A-AD4A-40B30072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F0F-CD87-46F5-83AA-E95FECC4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859-D987-4EF6-A174-2CC38153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FAB-5008-4020-A138-84D2AC59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48B6-70C1-404F-99C7-77150C76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BD3D-8854-4471-AC4A-9C996AAC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54C-9F6C-4B2C-B97F-9E9301B1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922-73C7-49F0-9A84-B819A265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53D99-7E38-4B8F-B1B1-7B730E3737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