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8751"/>
        <c:axId val="4337145"/>
      </c:barChart>
      <c:catAx>
        <c:axId val="4358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7145"/>
        <c:crosses val="autoZero"/>
        <c:auto val="1"/>
        <c:lblAlgn val="ctr"/>
        <c:lblOffset val="100"/>
        <c:noMultiLvlLbl val="0"/>
      </c:catAx>
      <c:valAx>
        <c:axId val="4337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8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F48-E1CE-4C66-8707-87D2FEAC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417-1BD6-4B38-BB20-FF026A8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293-DEE3-4961-85E1-B15B7276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0C0-23EB-487C-9DDA-00A93D97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D0F-B991-49C6-8C7E-7ABB73C0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9AD-C3EB-4935-A9A7-5A9DB39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99E-5252-4726-A9ED-EF140A7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61F-61FA-459C-9E41-EC90E2BD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792-485C-467A-92F1-4DB9484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D82-AF01-4547-9BDC-D965A0A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750-0960-4141-9F52-4DBD4F3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414-7534-491D-BEA7-4D8C08E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4E0A2-6E05-448A-82D4-C5D3E577E0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