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96723"/>
        <c:axId val="64578861"/>
      </c:barChart>
      <c:catAx>
        <c:axId val="26796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78861"/>
        <c:crosses val="autoZero"/>
        <c:auto val="1"/>
        <c:lblAlgn val="ctr"/>
        <c:lblOffset val="100"/>
        <c:noMultiLvlLbl val="0"/>
      </c:catAx>
      <c:valAx>
        <c:axId val="64578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96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A55-C9FE-49E6-9559-B4CC0D03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A73-0202-4C52-9EF2-56C74FD2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34F-E1B5-47D3-B401-B1F3E99F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276-7C74-4B34-A978-EC23CC18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031-0EBE-45A4-9491-2CAA9A2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EC53-CAF0-46FC-97DE-E9C4FD55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138-A02E-4004-B5C2-DACDCB1F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710-1D1D-449D-92AD-AF4170E6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265-190A-4BC9-A062-60E13108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388-78DE-445E-9429-2E245941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6D2-5A3B-46B6-BDC0-84C02D0A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180-94C4-4969-BBAA-EB391C8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344C0-F636-4054-B43C-AEF4382FD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