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37222"/>
        <c:axId val="94111309"/>
      </c:barChart>
      <c:catAx>
        <c:axId val="37437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11309"/>
        <c:crosses val="autoZero"/>
        <c:auto val="1"/>
        <c:lblAlgn val="ctr"/>
        <c:lblOffset val="100"/>
        <c:noMultiLvlLbl val="0"/>
      </c:catAx>
      <c:valAx>
        <c:axId val="94111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37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2DD-0CBA-4CD6-B4AA-E1937593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21D-11BA-4D9C-B8C8-1C955CEB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F1B-CEF6-4318-9E9D-41925A00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6AA-4720-49DE-9A5E-0EC63E08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848-5AE1-4560-A4C9-A774A512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0BB-1958-427A-ABDE-F90B9B18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2E1-69DC-47D9-A3A4-0A8214E5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401-8924-4877-A068-39D71E14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8BC-BA31-4AF6-B3E7-7529C7B7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4A3-36AE-4775-8CF4-9BF5FDC5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A8B-7030-452D-8403-2407ECA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076-9900-406F-A4AD-0514718F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83445-CC7B-4074-8AAC-A4CFFD8D3E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