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0887"/>
        <c:axId val="73306589"/>
      </c:barChart>
      <c:catAx>
        <c:axId val="43340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06589"/>
        <c:crosses val="autoZero"/>
        <c:auto val="1"/>
        <c:lblAlgn val="ctr"/>
        <c:lblOffset val="100"/>
        <c:noMultiLvlLbl val="0"/>
      </c:catAx>
      <c:valAx>
        <c:axId val="73306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0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842-1F92-47F1-90E4-6912C190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129-AC94-48C3-B08E-50F8533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9F9-88B1-4CF2-A5C1-99D8B11C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649-C576-4753-AD65-BA2DD72B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577-915A-47ED-AFBD-6815E3A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DF0-50F8-4027-8966-662D573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5FA-E6BB-4787-8476-A6EB4F3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C31-2F8F-4C67-92F1-50EAA51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B71-BC64-48DB-B2B5-94CA8BC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4DB-A402-4C7F-91B6-F072F4D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922-6DDF-4EB0-AB4F-1D64496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178-04D7-4FC3-B560-489DE03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883B9-1A7B-4061-AF36-14824C1DB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