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03401"/>
        <c:axId val="63595530"/>
      </c:barChart>
      <c:catAx>
        <c:axId val="79203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95530"/>
        <c:crosses val="autoZero"/>
        <c:auto val="1"/>
        <c:lblAlgn val="ctr"/>
        <c:lblOffset val="100"/>
        <c:noMultiLvlLbl val="0"/>
      </c:catAx>
      <c:valAx>
        <c:axId val="63595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03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BDE-EA3B-4C2E-911D-ECFCF209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3AC-6420-495B-B4EE-69FE930A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701-E1D0-4BD5-BC68-57CDAE09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7C6-ED51-438A-8ECF-D16D3287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63B-D060-4732-ABCC-D8679936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BB2-5888-4BC0-B7A5-B48A35D2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0E4D-A36F-4555-B23F-101EA789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C67C-D8F2-44F1-94C0-18E17ECC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B1F-5C50-447B-8572-BDAF16CE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269-0629-46B0-A8C1-C9F61B52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7F4-CBC6-4E82-AEC8-05F4C7B9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D6B-698F-4CEC-84B5-91FA7D2A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5DC9B-8EF0-4F31-83A2-AE20F5310D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