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9509"/>
        <c:axId val="83751136"/>
      </c:barChart>
      <c:catAx>
        <c:axId val="8229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51136"/>
        <c:crosses val="autoZero"/>
        <c:auto val="1"/>
        <c:lblAlgn val="ctr"/>
        <c:lblOffset val="100"/>
        <c:noMultiLvlLbl val="0"/>
      </c:catAx>
      <c:valAx>
        <c:axId val="83751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9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FDF-052C-4495-A176-B87727FB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34B-39BC-4545-9CAD-E434AB15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4E6-6B92-4B00-83CF-46B31D5E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DB5-FC27-4931-A75B-DDE6C8A1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BD0-B95D-4B02-BC55-31EAFAB6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BA7-CE1D-44E3-A255-61451DDF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018-3936-4B30-B60B-3E351AE2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DC0-1832-46BE-8210-AC2AE5E9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112-D8EC-410E-ACE7-2BD9A9DE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EA2-381A-474B-B20B-679A0B95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04D-5695-4EFF-98D7-291557DC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DFF-C276-4224-9D7E-DE9D9446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4DCEB-C198-479F-950B-0D2E97EAC8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