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4425"/>
        <c:axId val="27576586"/>
      </c:barChart>
      <c:catAx>
        <c:axId val="2764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76586"/>
        <c:crosses val="autoZero"/>
        <c:auto val="1"/>
        <c:lblAlgn val="ctr"/>
        <c:lblOffset val="100"/>
        <c:noMultiLvlLbl val="0"/>
      </c:catAx>
      <c:valAx>
        <c:axId val="2757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27A-0532-41ED-9DF4-FB5AFDA8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CA1-368B-478F-BF40-3185C31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2CD-6D59-40B1-82C0-9047C03A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FB4-C286-4392-9477-F1D2951E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E71-86AF-431D-B3EE-E192B42E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C50-F327-4DFC-AEB8-4BB51B06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EE3-EF67-484E-84DC-A63E18A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7FE-B293-4AC3-B406-3F3F993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FF8-0209-4CB9-908A-730510E2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CA0-EA81-4954-B8CA-D58FCEE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FE0-10D9-428C-846E-ACEDEE0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FC1-B996-4069-829D-DCCFC20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7DE51-572F-435B-AB50-F52CB6B355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