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640120"/>
        <c:axId val="13467782"/>
      </c:barChart>
      <c:catAx>
        <c:axId val="376401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467782"/>
        <c:crosses val="autoZero"/>
        <c:auto val="1"/>
        <c:lblAlgn val="ctr"/>
        <c:lblOffset val="100"/>
        <c:noMultiLvlLbl val="0"/>
      </c:catAx>
      <c:valAx>
        <c:axId val="13467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401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69E-0DFA-4233-9AE1-53D568A0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370-CA89-4A43-8356-257E8368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6D80-A1E1-470D-9C4E-A4A4E6A9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0F79-72E0-49C2-A389-8F1BF713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9DF0-1627-437C-B6CE-F8351EBA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BB27-A902-4717-ACD0-BA23E170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A138-0828-46DB-BC95-81BC3D47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124-3253-430F-B497-ACF91699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1A95-F048-4E1D-96F2-07A9F8AC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AC19-880C-447C-9431-4B862769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19A8-EDC6-4DC4-907D-89CDD823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2417-FEE2-41E0-BBF7-39777065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5A449-E6DC-407B-A2E4-0E4250BB13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