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30572"/>
        <c:axId val="75577299"/>
      </c:barChart>
      <c:catAx>
        <c:axId val="24830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77299"/>
        <c:crosses val="autoZero"/>
        <c:auto val="1"/>
        <c:lblAlgn val="ctr"/>
        <c:lblOffset val="100"/>
        <c:noMultiLvlLbl val="0"/>
      </c:catAx>
      <c:valAx>
        <c:axId val="75577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30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A6B-74CB-4848-9B84-D43CA432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878-3C7E-44DD-944C-1EEF57FE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AB1-716C-4426-B5D9-8AC61511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767-694D-4249-A123-2DD58324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F82-9D59-4929-AB24-60BBD248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708-193B-4FAD-973E-C2BC779B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1C5-3111-4113-9D0E-8810FA42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68D-4569-4031-B6CE-31CC713C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3C5-36E3-41A1-BECE-61C469C5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DA5-7114-4D50-B2F3-1C20C5E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CFC-AA37-4B08-9854-04D4DBEE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142-B367-49BA-94CE-59DB213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4A10F-19D5-41EE-99EF-2BC4A8A96E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