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20249"/>
        <c:axId val="62390719"/>
      </c:barChart>
      <c:catAx>
        <c:axId val="41320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90719"/>
        <c:crosses val="autoZero"/>
        <c:auto val="1"/>
        <c:lblAlgn val="ctr"/>
        <c:lblOffset val="100"/>
        <c:noMultiLvlLbl val="0"/>
      </c:catAx>
      <c:valAx>
        <c:axId val="62390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20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FA2-DFBE-4507-BCB3-61750AC0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82C-EE73-41F4-98D3-C832F473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FC4-ED47-44EC-9E97-45624680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C3D-E5C7-4E9A-9D5E-CE55B919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A3C-F94F-4606-8F2C-B5D1940B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FFB-9A1E-40F8-A22E-A7C3B709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8E3-8E29-4295-B897-2AF61651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E02-5F90-433F-A28A-61AA3DCB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7EC-2665-4138-AF5E-294083E0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DE3-6DD8-460A-97E0-E29DE01E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D3D-56D3-4884-BF0C-D3309328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0BD-DE68-42F0-8105-B71162BC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86ED0-C9BC-4E46-80FA-3EAFE89DEF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